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B8B-D05D-45B0-A1C7-2AFDC5D1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8C4-B413-4F75-9D03-93606677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D6B-3AD8-4209-9E48-46EF793A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F8E-FEF7-4A6A-BFF4-C03D7A95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653B-20EC-465A-A2BD-D01EC785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75D-B6FD-47E8-BA51-3EC27FBE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1DF5-A03A-4721-91CC-D686E5AA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4C07-7554-4D8B-8E0C-CB3B9B03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BC6F-33B6-4B6B-8B9B-556DD118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4D26-A46B-421D-B741-2FC8570D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6FA8-7BCB-445B-A089-A67F5D8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702-6652-48B5-9A03-F4F1614B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C1FE-641C-4050-A9B5-689F8E9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0E98-ACB0-496C-98AF-8AFB6AAF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EC65-5B9B-48AC-AAB2-A603F948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783E-B914-4715-9D56-9359A653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3027-E471-4525-96BF-3045988F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ABF-BB19-4109-A4C3-C9629EF9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725-F683-4819-97CB-F0FEDDFB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CFF-C8C7-4936-8612-A662EB69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7E4-D7F1-4B41-849C-39EF0179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F12-83F2-43BF-B6C3-F46C339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247-F656-4E89-A9E3-AA08595D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959-8789-482A-B8DD-01706D0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6515-1511-46B6-A549-64C8963923A4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C62-FCB2-4934-8431-B21C64257610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First World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Quick Review Key Concept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four main causes of WW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look in your notes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s the main goal during the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three end with 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ree reasons the US entered WW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f the reasons were things that other countries were doing or thinking of doing to 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ig reason was to insure we got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9b80"/>
                </a:solidFill>
                <a:latin typeface="Eurostile"/>
              </a:rPr>
              <a:t>1917 – Selective Service Act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295280"/>
            <a:ext cx="6934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6746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,000,000 men registered for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draft by the end of 1918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7040" indent="-6746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,800,000 men served in WW1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2,000,000 saw active combat)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7040" indent="-6746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00,000 African-America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rved in segregated unit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600200" y="1600200"/>
            <a:ext cx="5715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Expansion of 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Federal Govern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7315200" cy="1295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9b80"/>
                </a:solidFill>
                <a:latin typeface="Eurostile"/>
              </a:rPr>
              <a:t>Results of This New Organization of the Economy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752480"/>
            <a:ext cx="6934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employment virtually dis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ansion of “big governmen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ssive govt. regulations in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ose cooperation between public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private 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precedented opportunities for disadvantaged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7010280" cy="1478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9b80"/>
                </a:solidFill>
                <a:latin typeface="Eurostile"/>
              </a:rPr>
              <a:t>Opportunities for </a:t>
            </a:r>
            <a:br>
              <a:rPr sz="4400"/>
            </a:br>
            <a:r>
              <a:rPr b="1" i="1" lang="en-US" sz="4400" spc="-1" strike="noStrike">
                <a:solidFill>
                  <a:srgbClr val="d69b80"/>
                </a:solidFill>
                <a:latin typeface="Eurostile"/>
              </a:rPr>
              <a:t>African-Americans in WW1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2362320"/>
            <a:ext cx="67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Great Migration.”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  1916 – 1919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28584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frican-Americans move North for war industries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nlistment in segregated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uni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23880" y="1523880"/>
            <a:ext cx="60199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824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Attacks on</a:t>
            </a:r>
            <a:endParaRPr b="0" lang="en-US" sz="1800" spc="1" strike="noStrike">
              <a:ln w="19080">
                <a:solidFill>
                  <a:srgbClr val="4824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824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Civil Liberties</a:t>
            </a:r>
            <a:endParaRPr b="0" lang="en-US" sz="1800" spc="1" strike="noStrike">
              <a:ln w="19080">
                <a:solidFill>
                  <a:srgbClr val="4824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320"/>
            <a:ext cx="8305560" cy="1341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Government Excess &amp; Threats to the Civil Liberties of Americans</a:t>
            </a:r>
            <a:endParaRPr b="0" i="1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828800"/>
            <a:ext cx="7086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400" spc="-1" strike="noStrike">
                <a:solidFill>
                  <a:srgbClr val="cc3300"/>
                </a:solidFill>
                <a:latin typeface="Comic Sans MS"/>
              </a:rPr>
              <a:t>Espionage Act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– 1917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forbade actions tha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obstructed recruitment 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efforts to promo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insubordination in the militar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305920" cy="1218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Government Excess &amp; Threats </a:t>
            </a:r>
            <a:br>
              <a:rPr sz="3800"/>
            </a:b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to the Civil Liberties of Americans</a:t>
            </a:r>
            <a:endParaRPr b="0" i="1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523880"/>
            <a:ext cx="7467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edition 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1918</a:t>
            </a:r>
            <a:br>
              <a:rPr sz="3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it was a crime to speak against the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purchase of war bonds or </a:t>
            </a: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willfully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    utter, print, write or publish any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    disloyal, profane, scurrilous, or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    abusive languag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about this form of U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Govt., the US Constitution, or the U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armed forc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58840"/>
            <a:ext cx="8381880" cy="853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9b80"/>
                </a:solidFill>
                <a:latin typeface="Eurostile"/>
              </a:rPr>
              <a:t>Government Excess &amp; Threats </a:t>
            </a:r>
            <a:br>
              <a:rPr sz="3600"/>
            </a:br>
            <a:r>
              <a:rPr b="1" i="1" lang="en-US" sz="3600" spc="-1" strike="noStrike">
                <a:solidFill>
                  <a:srgbClr val="d69b80"/>
                </a:solidFill>
                <a:latin typeface="Eurostile"/>
              </a:rPr>
              <a:t>to the Civil Liberties of American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676520"/>
            <a:ext cx="739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Schenck v. 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1919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The most stringent protection of free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speech would not protect a man in falsely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shouting fire in a theater and causing a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panic.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[Justice Oliver Wendell Holmes]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- If an act of speech posed a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Comic Sans MS"/>
              </a:rPr>
              <a:t>clear and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    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Comic Sans MS"/>
              </a:rPr>
              <a:t>present danger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then Congress ha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the power to restrain such spee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Flu Epidemic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1918 an international flu epidemic spreads to the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year – 500,000 dead US; 40 million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astates US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es forced to close (not enough wor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purchases dec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Long-Term Caus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 – belief that national interests and national unity should be placed ahead of global cooperation and that a nation’s foreign affairs should be guided by self-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 – the policy in which stronger nations extend their economic, political, or military control over weaker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ilson Fights for Peac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1918 German military takes over the German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Kaiser began peace negot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army/navy mut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surrenders 11/11/1918 @ 11:00 a.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deaths @ 10:59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ilson’s Fourteen Point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cret treaties between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dom of the seas fo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ariffs to encourage fre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‘arms’ race and stockp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nies should be allowed self-de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13 Boundary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an international organization for diplomatic crisis – League of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AT HE WANTED FOR THE PEACE TREATY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eaty of Versaill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ain and France wanted harsh conditions to insure Germany would not be a threat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accepts blame for the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has to pay 132 billion in rep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 military drastical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es become protectorates of Al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new nations created – Czechoslovaki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gar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, Serbia,Poland,Lithuania, Estonia, Latvi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in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eaknesses of the Treat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iliates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s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s colonies – not self-determination or fre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Senate rejects Treaty and League of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nsequences of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– 10 million dead, 20 mill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- $330 billion, destruction of European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estruction of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– End of German, Austrian, Russian, and Ottoman Emp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weak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ment of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– deepens and expands nationalism, expands pessimistic view of hum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S Consequenc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0,000 dead – 300,000 inj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es America’s emergence as world’s greatest industrial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ocates American population to urba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anti-immigrant and anti-radical senti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Long-Term Caus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itarism – the development of armed forces and their use as a tool of diplom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ance system – treaties of assistance between nations to support one another if attacked (mutual defen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uses of World War 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96840" y="1911240"/>
            <a:ext cx="6112080" cy="3797280"/>
            <a:chOff x="1896840" y="1911240"/>
            <a:chExt cx="6112080" cy="3797280"/>
          </a:xfrm>
        </p:grpSpPr>
        <p:sp>
          <p:nvSpPr>
            <p:cNvPr id="96" name="_s6149"/>
            <p:cNvSpPr/>
            <p:nvPr/>
          </p:nvSpPr>
          <p:spPr>
            <a:xfrm>
              <a:off x="4181400" y="2451240"/>
              <a:ext cx="1542960" cy="1542960"/>
            </a:xfrm>
            <a:prstGeom prst="ellipse">
              <a:avLst/>
            </a:prstGeom>
            <a:solidFill>
              <a:srgbClr val="d69b80">
                <a:alpha val="50000"/>
              </a:srgbClr>
            </a:solidFill>
            <a:ln w="468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6150"/>
            <p:cNvSpPr/>
            <p:nvPr/>
          </p:nvSpPr>
          <p:spPr>
            <a:xfrm>
              <a:off x="4181400" y="191124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ATION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6151"/>
            <p:cNvSpPr/>
            <p:nvPr/>
          </p:nvSpPr>
          <p:spPr>
            <a:xfrm>
              <a:off x="4768560" y="3038400"/>
              <a:ext cx="1543320" cy="1542960"/>
            </a:xfrm>
            <a:prstGeom prst="ellipse">
              <a:avLst/>
            </a:prstGeom>
            <a:solidFill>
              <a:srgbClr val="caa966">
                <a:alpha val="50000"/>
              </a:srgbClr>
            </a:solidFill>
            <a:ln w="4680">
              <a:solidFill>
                <a:srgbClr val="caa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6152"/>
            <p:cNvSpPr/>
            <p:nvPr/>
          </p:nvSpPr>
          <p:spPr>
            <a:xfrm>
              <a:off x="6465600" y="361800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MPERI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6153"/>
            <p:cNvSpPr/>
            <p:nvPr/>
          </p:nvSpPr>
          <p:spPr>
            <a:xfrm>
              <a:off x="4181400" y="3625920"/>
              <a:ext cx="1542960" cy="1542960"/>
            </a:xfrm>
            <a:prstGeom prst="ellipse">
              <a:avLst/>
            </a:prstGeom>
            <a:solidFill>
              <a:srgbClr val="caa966">
                <a:alpha val="50000"/>
              </a:srgbClr>
            </a:solidFill>
            <a:ln w="4680">
              <a:solidFill>
                <a:srgbClr val="caa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6154"/>
            <p:cNvSpPr/>
            <p:nvPr/>
          </p:nvSpPr>
          <p:spPr>
            <a:xfrm>
              <a:off x="4181400" y="532296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LITAR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6155"/>
            <p:cNvSpPr/>
            <p:nvPr/>
          </p:nvSpPr>
          <p:spPr>
            <a:xfrm>
              <a:off x="3593880" y="3038400"/>
              <a:ext cx="1543320" cy="1542960"/>
            </a:xfrm>
            <a:prstGeom prst="ellipse">
              <a:avLst/>
            </a:prstGeom>
            <a:solidFill>
              <a:srgbClr val="969696">
                <a:alpha val="50000"/>
              </a:srgbClr>
            </a:solidFill>
            <a:ln w="46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6156"/>
            <p:cNvSpPr/>
            <p:nvPr/>
          </p:nvSpPr>
          <p:spPr>
            <a:xfrm>
              <a:off x="1896840" y="361800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LLI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003560" y="391788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hoosing Sid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 (All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States (19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merican Neutralit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ism – policy of opposition to political or economic ties with other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opinion is strongly di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immigrants have connections to countries at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athy for the Al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/ economic ties to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 atrocities in 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.S. Enters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re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.3 billion loaned to Allies for war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U-B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 blockade of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u-boa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of U.S. 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.S. Enters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mmerman note – Germany promises support for Mexico to recover lost territories if U.S. enters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Wilson – 1916 Campaign pledge “He Kept Us Out of War” unable to broker a “peace among equa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5:55:16Z</dcterms:created>
  <dc:creator> </dc:creator>
  <dc:description/>
  <dc:language>en-US</dc:language>
  <cp:lastModifiedBy>School District U46</cp:lastModifiedBy>
  <dcterms:modified xsi:type="dcterms:W3CDTF">2009-11-17T13:17:06Z</dcterms:modified>
  <cp:revision>9</cp:revision>
  <dc:subject/>
  <dc:title>The First World War</dc:title>
</cp:coreProperties>
</file>